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B3F-DC48-4D99-934A-D7F38D49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678-9CD7-41A0-9FD7-F4029A45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601-821F-4401-9757-30589968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354-E4E1-41AF-99CE-2AF07649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439F-DDC6-493A-B1DC-FD5491D3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77BB-D661-4D90-A7E4-DBF9C0C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3D76-B229-44A6-9655-FA769B20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BE4-EA02-4AB2-AC9F-A424170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AB9D-1E03-4943-A885-FCB2DD9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DEA-272C-4034-9503-FBD3679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1C2-1061-48EA-BD27-AEC0702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115-624C-4309-AFB8-90DE9DC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4506-301C-4B7D-BD6F-F8A437B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B74D-B4FF-462D-BECB-4A1842B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6DE-EEEF-4D89-921D-92B529EF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EA13-CE1A-4F37-A6A6-0A3F2984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250-BB9E-4CA5-9EA4-1B948E52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30EF-2A01-4447-B218-C5F612C2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DDE7-4455-4036-A03D-18603DA0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11A7-91B1-46FE-9237-8883DED0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1281-7E9A-4BC8-BF54-E50A728C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5E55-5DE4-44C0-9842-0F5222F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F04-688C-468E-81E4-E2C7DDE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EB46-009F-4896-BA5D-B00A0B8F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E952-B068-40A7-BB37-3D2EC2C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9361-682F-4E55-8304-8BB525F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1230-1CD8-40F7-8469-F580B59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E35E-6199-48A0-852C-3F746FED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970D-351A-405C-93BB-D173BDF1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DBF9-876B-4306-A210-884CBE7E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B022-2876-48E8-842A-BF85AD7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5873-CA76-4DCB-8F0D-4AFA2ED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BCCF-88A7-40E9-9AF4-6D461AB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EA-2FB4-4271-B5DA-CA63291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0103-66D9-4618-BDC4-69872E9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2FC6-7F90-4FA1-859A-3F1D6D8D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A0BD-6B15-4D7F-B24C-FFD1BBB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A383-B64E-4990-8506-FBFF280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EFF5-0C8A-4CA7-8F9C-35B8F41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363C-BBFE-4A5D-B287-42B0F59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B6C3-9A6B-4D83-B10C-BDFBB30F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1972-7EA1-423B-9FB2-4418F67F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61C4-1C55-433A-9747-CB06E0C0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3F446-F2C5-4139-9864-6498C0F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A55-D41C-47B2-9B57-210AD2E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B63B-D8EA-498B-99DC-C0BDDC4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14CD-B68E-4457-B4AA-0CFBCCD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9850-73AF-4746-B072-B7CCD2C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9777B-3721-4E11-89B7-3042C8D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CB65-4D37-4AF3-A048-6DFA0DF8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1B85-40A9-479E-A6C4-31BECB8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306F-BEF3-4FE5-9612-977FF5B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FA62-452E-40B6-A73D-1A436D0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BF2F-768E-41C1-B189-F5BE78E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4947-B754-4577-9096-AA62A135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BE5-A73E-4CF0-AC0F-AEE0FDFD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AB03-7AF4-4143-9FD1-B654AD1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3F763-5EEC-40DD-BACB-40CC65D7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BCB4-1CC8-470C-9B6D-CEEFEF3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AE40-0AFD-4962-A821-F14A843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B273-454F-4584-BDAD-5D603C1A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DA7F-5DCE-405C-A223-ADA830B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7585-8472-4C64-8950-A9C4D67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3548-3311-4C47-BED7-BF754EB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97EF-C7C9-4EBA-99D9-1FED792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F606-2057-4599-BEE4-E12B3EB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652-99B3-49AD-B28F-51331028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94EA-CE73-4F5F-9BD4-2C5C4EAE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A940-FAFB-45A4-8E3F-B289E49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6289-359F-4CA9-B8F5-4C0DF845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EDEB-83FB-4D8B-823E-E9167963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45E7-F60C-4E1D-AEC5-A7E80793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04BF-7812-4D38-9E92-229A8AC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123F-F291-4F99-BA7C-7518C59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C1A3-FEAB-4BEE-BEF9-9FF41498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16F7-FFF3-488B-BFDE-21CF9AF9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BEE6-F915-4BAD-9C3B-31C6EC8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989-7408-4D2D-9032-48B2829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C272-67A0-437F-8863-2F04369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F703-9C27-42C1-AA7A-F503100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1A52-10C1-44B2-8B17-CEB7A2E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3F4D-4F8A-414D-8934-53BF9BDB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72BE9-5DE5-4A69-AB80-9A8203E2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81474-986E-4FC4-A553-93D9F675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0A9E-F0A9-491C-B535-F74AFE29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6A56-8DFC-4C83-9CA1-731E382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1B78-1FDB-4316-B6DC-3A67ABBA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59AC-B86A-4931-B7E1-6120124D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A95-9594-454F-854D-567A1EE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8C9F-B78D-463E-A741-BA6B830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047F-8E35-49B1-9D17-9B41C54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9106-3907-458A-9C53-E21AFAE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958F-56AD-4C7C-80E8-B7332DB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2CCA-4151-4E4B-80DB-ED03CC9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25432-3A6F-46CD-BFA0-9C58DB36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2A9B2-4876-4A1C-BF3A-9B43DCCB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ihandsfigur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ihandsfigur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ätvinklig triangel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ätvinklig triangel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Ra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2D0-FEFD-432B-85E0-A5C987E14D60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ätvinklig triangel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ihandsfigur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ihandsfigur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ihandsfigur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ihandsfigur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Rak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729-1750-4AB8-AD6B-DA3F417E4440}" type="slidenum">
              <a:rPr b="0" lang="sv-S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ihandsfigur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ihandsfigur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ätvinklig triangel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ätvinklig triangel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Ra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V-form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V-form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694-1240-4C18-8F6E-10937AE5F91A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ihandsfigur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ihandsfigur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ätvinklig triangel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ätvinklig triangel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Ra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3C6B-AC8E-4891-8F9E-C2A54EFA82E0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96F5-7D74-4E74-8C5D-434B1DE03EE7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ihandsfigur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ihandsfigur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ätvinklig triangel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ätvinklig triangel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Ra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AC3-CD15-4DA2-9EE3-89817E3F7E21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B4E3-4AE3-4463-9662-CDCCC7A476B0}" type="slidenum">
              <a:rPr b="0" lang="sv-S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ihandsfigur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ihandsfigur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ätvinklig triangel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ätvinklig triangel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Rak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V-form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V-form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E33E-D13C-4E18-9B17-A83DCE0D82DF}" type="slidenum">
              <a:rPr b="0" lang="sv-S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Bildobjekt 3" descr="lyckelogofärgslogan20.bmp"/>
          <p:cNvPicPr/>
          <p:nvPr/>
        </p:nvPicPr>
        <p:blipFill>
          <a:blip r:embed="rId1"/>
          <a:stretch/>
        </p:blipFill>
        <p:spPr>
          <a:xfrm>
            <a:off x="0" y="1378080"/>
            <a:ext cx="91440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latshållare för innehåll 3" descr="lyckeskolan-arkiv_full.jpg"/>
          <p:cNvPicPr/>
          <p:nvPr/>
        </p:nvPicPr>
        <p:blipFill>
          <a:blip r:embed="rId1"/>
          <a:stretch/>
        </p:blipFill>
        <p:spPr>
          <a:xfrm>
            <a:off x="457200" y="1924200"/>
            <a:ext cx="8229600" cy="3639960"/>
          </a:xfrm>
          <a:prstGeom prst="rect">
            <a:avLst/>
          </a:prstGeom>
          <a:ln w="0">
            <a:noFill/>
          </a:ln>
        </p:spPr>
      </p:pic>
      <p:pic>
        <p:nvPicPr>
          <p:cNvPr id="372" name="Rubrik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350 students aged 12-16 yea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40 teache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Students with special need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3 specialization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Artistic produc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Sport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Lucida Sans Unicode"/>
              </a:rPr>
              <a:t>Internationa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Rubrik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Bildobjekt 4" descr="501435_jpg_2194420c.jpg"/>
          <p:cNvPicPr/>
          <p:nvPr/>
        </p:nvPicPr>
        <p:blipFill>
          <a:blip r:embed="rId2"/>
          <a:stretch/>
        </p:blipFill>
        <p:spPr>
          <a:xfrm>
            <a:off x="4443480" y="2225520"/>
            <a:ext cx="4438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Dr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Mus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Danc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Craf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ubrik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latshållare för innehåll 4" descr="dsc_0018_full.jpg"/>
          <p:cNvPicPr/>
          <p:nvPr/>
        </p:nvPicPr>
        <p:blipFill>
          <a:blip r:embed="rId2"/>
          <a:stretch/>
        </p:blipFill>
        <p:spPr>
          <a:xfrm>
            <a:off x="5105520" y="1844640"/>
            <a:ext cx="4038480" cy="2040120"/>
          </a:xfrm>
          <a:prstGeom prst="rect">
            <a:avLst/>
          </a:prstGeom>
          <a:ln w="0">
            <a:noFill/>
          </a:ln>
        </p:spPr>
      </p:pic>
      <p:pic>
        <p:nvPicPr>
          <p:cNvPr id="380" name="Bildobjekt 5" descr="fn_gala_1_356455c.jpg"/>
          <p:cNvPicPr/>
          <p:nvPr/>
        </p:nvPicPr>
        <p:blipFill>
          <a:blip r:embed="rId3"/>
          <a:stretch/>
        </p:blipFill>
        <p:spPr>
          <a:xfrm>
            <a:off x="2484360" y="4005360"/>
            <a:ext cx="43340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ubrik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Sans Unicode"/>
              </a:rPr>
              <a:t>Be healthy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Sans Unicode"/>
              </a:rPr>
              <a:t>Be happy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latshållare för innehåll 4" descr="6ac7b2e6.jpg"/>
          <p:cNvPicPr/>
          <p:nvPr/>
        </p:nvPicPr>
        <p:blipFill>
          <a:blip r:embed="rId2"/>
          <a:stretch/>
        </p:blipFill>
        <p:spPr>
          <a:xfrm>
            <a:off x="468360" y="2276640"/>
            <a:ext cx="4040280" cy="2690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Lucida Sans Unicode"/>
              </a:rPr>
              <a:t>Working toge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Lucida Sans Unicode"/>
              </a:rPr>
              <a:t>Trying new thing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Lucida Sans Unicode"/>
              </a:rPr>
              <a:t>Becoming strong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Lucida Sans Unicode"/>
              </a:rPr>
              <a:t>Achieving mo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Lucida Sans Unicode"/>
              </a:rPr>
              <a:t>HAVING FUN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Learning more about the world around u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Getting to know young people in other countrie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Opening mind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Fighting Xenophobia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Using IC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Lucida Sans Unicode"/>
              </a:rPr>
              <a:t>Travelling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7" name="Platshållare för innehåll 3" descr="asre 010.jpg"/>
          <p:cNvPicPr/>
          <p:nvPr/>
        </p:nvPicPr>
        <p:blipFill>
          <a:blip r:embed="rId1"/>
          <a:stretch/>
        </p:blipFill>
        <p:spPr>
          <a:xfrm>
            <a:off x="4648320" y="22305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88" name="Rubrik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v-SE" sz="2700" spc="-1" strike="noStrike">
                <a:solidFill>
                  <a:srgbClr val="000000"/>
                </a:solidFill>
                <a:latin typeface="Lucida Sans Unicode"/>
              </a:rPr>
              <a:t>United Europe – a perfect home to live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Romania, Latvia, Hungary and Po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2012-20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700" spc="-1" strike="noStrike">
                <a:solidFill>
                  <a:srgbClr val="000000"/>
                </a:solidFill>
                <a:latin typeface="Lucida Sans Unicode"/>
              </a:rPr>
              <a:t>LE-MAT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2012-20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700" spc="-1" strike="noStrike">
                <a:solidFill>
                  <a:srgbClr val="000000"/>
                </a:solidFill>
                <a:latin typeface="Lucida Sans Unicode"/>
              </a:rPr>
              <a:t>Textile heritage in a changing wor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Po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2012-201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ubrik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2:58:59Z</dcterms:created>
  <dc:creator>Full Name</dc:creator>
  <dc:description/>
  <dc:language>en-US</dc:language>
  <cp:lastModifiedBy>user</cp:lastModifiedBy>
  <dcterms:modified xsi:type="dcterms:W3CDTF">2014-05-22T09:00:51Z</dcterms:modified>
  <cp:revision>11</cp:revision>
  <dc:subject/>
  <dc:title>Lyckeskolan Kinna SWEDEN</dc:title>
</cp:coreProperties>
</file>